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4C35-4C60-4DBB-8C32-4383FCB9B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B55E-4683-4F15-8AB9-9469826BA7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A4A1-81C1-4696-977D-4866E334FE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E7F5-F71C-411A-BBEE-EC4C683BE9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6DCC-86B0-453B-AFE9-0C1BC3CCED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EE9D-703B-4FBD-A9DD-A3A957ADF5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232A-EA94-4C81-99F4-AAF5D83058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36C-7DCE-466D-9D79-7F285D75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F25-BB31-4231-A998-57D5C2C6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137-8215-47CD-A038-FA6481A7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292-7EDE-4780-ADA1-DF91F70F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5451-E670-4F67-9B4A-6BD7E4DB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A7F8-BF42-4A36-83F0-D879FC44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858D-9411-48A0-9D59-8D74D633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3082-5C27-4C63-8099-29E711BB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A9B7-C41D-4899-AB1D-86A686A2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2735-8A4F-4BD5-8B66-9C08FA73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E43B-28D3-4E6E-9B17-4B33C7FC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D37-3000-437F-B5A0-21256D90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A960-67F8-46FE-9FF3-22D0BF57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BDB9-CE15-4C5B-8646-EEF395C1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2E0A-A2B3-4EFB-A48E-1919645D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04AA-DD33-4908-9098-FBE63AC9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88A6-2D3D-44AF-960E-04E0F95C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020-ABBC-47DC-B530-B6B3A962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97C-3CFE-468C-984D-4B375AFA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A69D-5A29-4F82-A44B-57145683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A64-5B44-4476-B37F-FE28ADD7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5254-21CB-4284-B451-FDC2A7EE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4CB7-781E-4297-837A-0F01269F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373-6851-4203-BC69-8B4F4895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02B9-A29A-4E20-8B02-EECF546645C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A4B1-4AE5-4351-BD16-8B7A1FA1469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3870360" y="214200"/>
            <a:ext cx="11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Comic Sans MS"/>
              </a:rPr>
              <a:t>Biliau t</a:t>
            </a:r>
            <a:r>
              <a:rPr b="0" lang="cy-GB" sz="2000" spc="-1" strike="noStrike" u="sng">
                <a:solidFill>
                  <a:srgbClr val="ffff00"/>
                </a:solidFill>
                <a:uFillTx/>
                <a:latin typeface="Comic Sans MS"/>
              </a:rPr>
              <a:t>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sample electricity bill"/>
          <p:cNvPicPr/>
          <p:nvPr/>
        </p:nvPicPr>
        <p:blipFill>
          <a:blip r:embed="rId1"/>
          <a:stretch/>
        </p:blipFill>
        <p:spPr>
          <a:xfrm>
            <a:off x="3071880" y="1500120"/>
            <a:ext cx="5630760" cy="4214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t1.gstatic.com/images?q=tbn:BjXxZlPY_4taAM:http://i.ehow.com/images/GlobalPhoto/Articles/4877084/electricmeterge-mainFull-main_Full.jpg"/>
          <p:cNvPicPr/>
          <p:nvPr/>
        </p:nvPicPr>
        <p:blipFill>
          <a:blip r:embed="rId2"/>
          <a:stretch/>
        </p:blipFill>
        <p:spPr>
          <a:xfrm>
            <a:off x="571680" y="2071800"/>
            <a:ext cx="2266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14200" y="80856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Mae Mr a Mrs Hutchings newydd dderbyn eu bil tryd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ar gyfer y chwarter o Ragfyr i Chwefror. Dyma fanylion y b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Darlleniad blaenorol y mesurydd 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SimSun"/>
              </a:rPr>
              <a:t>80349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Darlleniad presennol y mesurydd 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SimSun"/>
              </a:rPr>
              <a:t>812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Cost yr uned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SimSun"/>
              </a:rPr>
              <a:t>7.6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ceiniog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Tâl sefydlog y chwarter 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SimSun"/>
              </a:rPr>
              <a:t>£10.7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(a) Cyfrifwch gyfanswm cost y trydan ar gyfer y chwarter 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Ragfyr i Chwefr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(b) Ychwanegir treth ar werth yn ôl y gyfradd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SimSun"/>
              </a:rPr>
              <a:t>5%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at filia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trydan. Faint yw bil trydan Mr a Mrs Hutchings 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gynnwys TA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15000" y="85716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Unedau a ddefnyddiwy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14720" y="1143000"/>
            <a:ext cx="5000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  <a:ea typeface="SimSun"/>
              </a:rPr>
              <a:t>81293 – 80349 = 944 u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06080" y="20718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st yr uned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071800" y="2357280"/>
            <a:ext cx="5000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  <a:ea typeface="SimSun"/>
              </a:rPr>
              <a:t>944 × 7.62 c = 7193.28 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715080" y="2357280"/>
            <a:ext cx="1857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SimSun"/>
              </a:rPr>
              <a:t>= £71.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528480" y="371484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âl sefyd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715080" y="3357720"/>
            <a:ext cx="1857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SimSun"/>
              </a:rPr>
              <a:t>= £10.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302040" y="214200"/>
            <a:ext cx="5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4828680" y="44290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yfansw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715080" y="4143240"/>
            <a:ext cx="1857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SimSun"/>
              </a:rPr>
              <a:t>= £82.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17"/>
          <p:cNvGrpSpPr/>
          <p:nvPr/>
        </p:nvGrpSpPr>
        <p:grpSpPr>
          <a:xfrm>
            <a:off x="7072200" y="4357800"/>
            <a:ext cx="1214640" cy="715680"/>
            <a:chOff x="7072200" y="4357800"/>
            <a:chExt cx="1214640" cy="715680"/>
          </a:xfrm>
        </p:grpSpPr>
        <p:sp>
          <p:nvSpPr>
            <p:cNvPr id="104" name="Straight Connector 12"/>
            <p:cNvSpPr/>
            <p:nvPr/>
          </p:nvSpPr>
          <p:spPr>
            <a:xfrm flipH="1" flipV="1">
              <a:off x="7072200" y="4357800"/>
              <a:ext cx="1214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16"/>
            <p:cNvGrpSpPr/>
            <p:nvPr/>
          </p:nvGrpSpPr>
          <p:grpSpPr>
            <a:xfrm>
              <a:off x="7072200" y="5000760"/>
              <a:ext cx="1214640" cy="72720"/>
              <a:chOff x="7072200" y="5000760"/>
              <a:chExt cx="1214640" cy="72720"/>
            </a:xfrm>
          </p:grpSpPr>
          <p:sp>
            <p:nvSpPr>
              <p:cNvPr id="106" name="Straight Connector 14"/>
              <p:cNvSpPr/>
              <p:nvPr/>
            </p:nvSpPr>
            <p:spPr>
              <a:xfrm flipH="1" flipV="1">
                <a:off x="7072200" y="5000760"/>
                <a:ext cx="1214640" cy="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Straight Connector 15"/>
              <p:cNvSpPr/>
              <p:nvPr/>
            </p:nvSpPr>
            <p:spPr>
              <a:xfrm flipH="1" flipV="1">
                <a:off x="7072200" y="5072040"/>
                <a:ext cx="1214640" cy="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Box 18"/>
          <p:cNvSpPr/>
          <p:nvPr/>
        </p:nvSpPr>
        <p:spPr>
          <a:xfrm>
            <a:off x="469080" y="5286240"/>
            <a:ext cx="8087400" cy="1191240"/>
          </a:xfrm>
          <a:prstGeom prst="rect">
            <a:avLst/>
          </a:prstGeom>
          <a:solidFill>
            <a:srgbClr val="7e6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ydd cyfanswm y bìl rhywle rhwng £50 a £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s yw ateb mewn miloedd rydych wedi anghofio new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st yr unedau o geiniogau i bunnoed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1224360" y="164304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.A.W. (5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143080" y="1785960"/>
            <a:ext cx="27147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  <a:ea typeface="SimSun"/>
              </a:rPr>
              <a:t>0.05× £82.6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357880" y="1785960"/>
            <a:ext cx="1857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SimSun"/>
              </a:rPr>
              <a:t>= £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SimSun"/>
              </a:rPr>
              <a:t>4.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5214960" y="2571840"/>
            <a:ext cx="1857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SimSun"/>
              </a:rPr>
              <a:t>= £ 86.7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306360" y="21420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1135080" y="928800"/>
            <a:ext cx="40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yfanswm y bìl (cyn T.A.W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5214960" y="571680"/>
            <a:ext cx="1857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SimSun"/>
              </a:rPr>
              <a:t>= £ 82.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11"/>
          <p:cNvGrpSpPr/>
          <p:nvPr/>
        </p:nvGrpSpPr>
        <p:grpSpPr>
          <a:xfrm>
            <a:off x="5500440" y="2714760"/>
            <a:ext cx="1571400" cy="715680"/>
            <a:chOff x="5500440" y="2714760"/>
            <a:chExt cx="1571400" cy="715680"/>
          </a:xfrm>
        </p:grpSpPr>
        <p:sp>
          <p:nvSpPr>
            <p:cNvPr id="117" name="Straight Connector 12"/>
            <p:cNvSpPr/>
            <p:nvPr/>
          </p:nvSpPr>
          <p:spPr>
            <a:xfrm flipH="1" flipV="1">
              <a:off x="5500440" y="2714760"/>
              <a:ext cx="15714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16"/>
            <p:cNvGrpSpPr/>
            <p:nvPr/>
          </p:nvGrpSpPr>
          <p:grpSpPr>
            <a:xfrm>
              <a:off x="5500440" y="3357720"/>
              <a:ext cx="1571400" cy="72720"/>
              <a:chOff x="5500440" y="3357720"/>
              <a:chExt cx="1571400" cy="72720"/>
            </a:xfrm>
          </p:grpSpPr>
          <p:sp>
            <p:nvSpPr>
              <p:cNvPr id="119" name="Straight Connector 14"/>
              <p:cNvSpPr/>
              <p:nvPr/>
            </p:nvSpPr>
            <p:spPr>
              <a:xfrm flipH="1" flipV="1">
                <a:off x="5500440" y="3357720"/>
                <a:ext cx="1571400" cy="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Straight Connector 15"/>
              <p:cNvSpPr/>
              <p:nvPr/>
            </p:nvSpPr>
            <p:spPr>
              <a:xfrm flipH="1" flipV="1">
                <a:off x="5500440" y="3429000"/>
                <a:ext cx="1571400" cy="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TextBox 16"/>
          <p:cNvSpPr/>
          <p:nvPr/>
        </p:nvSpPr>
        <p:spPr>
          <a:xfrm>
            <a:off x="989280" y="271476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yfanswm y bì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2556000" y="5214960"/>
            <a:ext cx="4537800" cy="459720"/>
          </a:xfrm>
          <a:prstGeom prst="rect">
            <a:avLst/>
          </a:prstGeom>
          <a:solidFill>
            <a:srgbClr val="7e6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tebwch y daflen ar filiau sy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3917880" y="160200"/>
            <a:ext cx="11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Comic Sans MS"/>
              </a:rPr>
              <a:t>Biliau t</a:t>
            </a:r>
            <a:r>
              <a:rPr b="0" lang="cy-GB" sz="2000" spc="-1" strike="noStrike" u="sng">
                <a:solidFill>
                  <a:srgbClr val="ffff00"/>
                </a:solidFill>
                <a:uFillTx/>
                <a:latin typeface="Comic Sans MS"/>
              </a:rPr>
              <a:t>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14200" y="881280"/>
            <a:ext cx="8429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7ed"/>
                </a:solidFill>
                <a:latin typeface="Comic Sans MS"/>
                <a:ea typeface="Times New Roman"/>
              </a:rPr>
              <a:t>Mae cyfrif trydan gyda </a:t>
            </a:r>
            <a:r>
              <a:rPr b="0" i="1" lang="en-US" sz="3200" spc="-1" strike="noStrike">
                <a:solidFill>
                  <a:srgbClr val="e9e7ed"/>
                </a:solidFill>
                <a:latin typeface="Comic Sans MS"/>
                <a:ea typeface="Times New Roman"/>
              </a:rPr>
              <a:t>Egni Cymru </a:t>
            </a:r>
            <a:r>
              <a:rPr b="0" lang="en-US" sz="3200" spc="-1" strike="noStrike">
                <a:solidFill>
                  <a:srgbClr val="e9e7ed"/>
                </a:solidFill>
                <a:latin typeface="Comic Sans MS"/>
                <a:ea typeface="Times New Roman"/>
              </a:rPr>
              <a:t>wedi’i ddangos isod, gyda rhai o’r cofnodion wedi’u dileu. Mae e’n talu am ei drydan drwy daliadau debyd uniongyrchol misol. Mae’n cael discownt o £24.25 am dalu yn y ffordd honn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7ed"/>
                </a:solidFill>
                <a:latin typeface="Comic Sans MS"/>
                <a:ea typeface="Times New Roman"/>
              </a:rPr>
              <a:t>Defnyddiwch y wybodaeth sydd wedi’i rhoi yn y cyfrif i lenwi’r holl gofnodion coll ac i gyfrifo’r gweddill (</a:t>
            </a:r>
            <a:r>
              <a:rPr b="0" i="1" lang="en-US" sz="3200" spc="-1" strike="noStrike">
                <a:solidFill>
                  <a:srgbClr val="e9e7ed"/>
                </a:solidFill>
                <a:latin typeface="Comic Sans MS"/>
                <a:ea typeface="Times New Roman"/>
              </a:rPr>
              <a:t>balance</a:t>
            </a:r>
            <a:r>
              <a:rPr b="0" lang="en-US" sz="3200" spc="-1" strike="noStrike">
                <a:solidFill>
                  <a:srgbClr val="e9e7ed"/>
                </a:solidFill>
                <a:latin typeface="Comic Sans MS"/>
                <a:ea typeface="Times New Roman"/>
              </a:rPr>
              <a:t>) yng nghyfrif Mr J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rcRect l="24165" t="21600" r="25054" b="9241"/>
          <a:stretch/>
        </p:blipFill>
        <p:spPr>
          <a:xfrm>
            <a:off x="500040" y="115920"/>
            <a:ext cx="8291520" cy="6557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9:11:14Z</dcterms:created>
  <dc:creator>Carwyn</dc:creator>
  <dc:description/>
  <dc:language>en-US</dc:language>
  <cp:lastModifiedBy>Carwyn</cp:lastModifiedBy>
  <dcterms:modified xsi:type="dcterms:W3CDTF">2009-11-04T22:06:25Z</dcterms:modified>
  <cp:revision>8</cp:revision>
  <dc:subject/>
  <dc:title>Slide 1</dc:title>
</cp:coreProperties>
</file>